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69D-499D-4DE0-9D80-94197CC8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513-7E92-4B9F-8567-6CF7DC4F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837A7-3CFB-488C-AE84-A1E900C9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A9415-9E43-45E4-B4FC-80ADA2E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20BE1-ABF3-4AAD-85CA-0C5B0EF3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2E8F6-E2C9-4389-82E2-CBF15156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AD8EC-8396-4706-AAA8-09484C7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85B53-F23E-49EF-A89C-B3CBCF40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BDBE2-4606-49D7-A8BF-66E5A88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4DEC7-0D63-4645-A769-9BB7B710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5B60A-3825-4B1F-99E6-2CD60225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D4FCB-6CC9-4500-A7E5-6ECB25C5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69B-D969-4609-94B0-5DF0BC1E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10A50-41F7-4D6D-A759-B8EF4BB4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04F83-9E64-4D74-8726-1C0FAAE4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30891-853E-431A-9D2C-70D07F19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D0DEC-7A03-47D0-992F-2896C336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C53F0-5D69-458C-AFA3-7E7BDF56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E191B-4413-480B-908B-6613EA85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05496-2BD6-4203-A177-26EAC620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CCEB3-B503-4461-9E6F-A847A0A9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BCEBF-2F02-4741-BC00-22B9E222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7A021-3A9A-4575-9397-A8BD1741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083-7C4D-47E5-9B0E-194DEDAF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59DF2-8804-4314-9EB4-4378EBC6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A4BC6-118A-41E9-8A17-C10D0526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C67BB-6CFA-403A-99D0-C1F6352E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110B2-7BB9-43D7-A5B6-35E7B4E7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D04AC-9D3D-4F55-B154-B880B36B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1695C-CDD7-44C5-BB15-CE5EF7D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EC676-80CC-4357-AE21-24338E9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08D26-D9BE-4DC8-B628-8A935D74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390F2-A68C-4D49-B3A1-BF3BB3C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875B0-BA78-4D56-8F2F-11B26D5B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6D5C-03B0-4858-8325-F7C566FE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74C7E-E363-446E-8720-39DC882A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61D24-0FCD-4FFD-8B26-5CFCCA93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CD44F-0070-4831-99D4-357FD2BC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D5B49-F709-42E9-A259-201711C2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14E22-26F8-4F76-A728-1891862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1997A-128B-47BA-A9C9-22E125CE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E5691-3174-417D-B5C7-D7CBA5E1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8DCC2-03B2-4F9B-AC0D-EBEF00A5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6ED28-BB45-438A-82A1-A1FD9570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A4446-8B16-4200-8CBF-0F36E194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5E91-9A9D-48F2-B32C-1BAA7AA1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DE8B8-814C-416C-B9D9-DD61B96F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962B2-51AE-44AD-B646-111234B0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1D8EC-425C-4620-87A9-D9A9E72C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32908-6987-477A-B038-0459DB90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32C56-C67D-41BC-93DA-89DEB774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1E6DA-879D-438A-AE33-33E1C0A0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891BE-3A98-4C06-8703-F9900D9F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2F4A2-4922-42A8-9BCF-C106CBA4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CF5BE-5433-42D7-B395-D586A002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62808-FEE3-4AE2-B5D3-A653C1B2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2E8A-D5AD-4F80-9405-3D33A26D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4630B-ACE6-48EE-8E85-54C228B7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3916F-A105-4392-8630-0A946A9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0DF20-B812-42DF-AFA8-B73439A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9D609-CDE6-44E2-967E-C7D4EA5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D81DB-3F16-4791-9906-A80C0063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D498D-463E-43FD-BCA6-F7B507D1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BB8A8-8E61-42AB-B1D1-0E0FAD38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5B7A4-6E36-4582-96C6-37A904F9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3BCBD-4631-42F7-9CDE-BC4E7BB3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87379-6C46-4AAF-90B1-B65BC7E7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F867-D556-4027-9AFA-50F7D336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154D7-0247-4BC2-9FCB-B8F522AD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C5992-8660-4D59-9DDA-A6E2AC0A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B981A-97C3-491A-BA5C-E48F53E2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5F7EC-E41F-471B-B2E3-2FB80C38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916EC-9B57-4BD4-B761-E9D272C3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7307E-9E53-4D79-81FB-1F729822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53AC1-1EA8-42DF-A458-2048DBD1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BB0EE-2D09-4396-9AC4-B46DCFF1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1853B-26CC-48F2-881D-476537A9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42F2E-FF00-486E-8E59-292019B5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BE32-DAEC-4AA4-B354-0D0CACF9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D9CC9-BCDE-43FA-921E-EF17F650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39BF0-9575-4671-9E6B-7219C2B3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5A5D3-1AFC-48B1-8898-82F2D7D9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D4F78-10D7-403A-A4F3-2E3D2C9D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D8796-B02B-4856-BAD6-05925FF1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8E0D9-00CA-4BA0-B1DC-E620F5BC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4A81C-B549-4EC7-80B3-106C3D2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40C06-52C7-40F0-9CBC-2F305F91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DF1D8-05B7-4B21-8E09-D76C0FAF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0D1C7-ECC7-432D-AAF5-C3154FD3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74BD-37BE-47B6-8BBE-A872F72C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F547C-5D23-4100-B1B6-6A2D7875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98EED-1FF0-4739-85FF-6EFBD064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99647-D31E-4A0A-9FB4-CD8DA6F9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CB906-6A59-4C44-8CF0-2ACB4E5A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BDFA6-3FBE-4F75-8CA7-B2F1D055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53A8B-FFE6-44C6-B864-17BC572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44627-6C27-4ADD-BEB1-27FC2DB1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1AF99-5DCA-41F0-AF68-D3901367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B9160-2193-4B63-AD83-84BAB09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5EF0A-AA62-4CE9-A1E6-E03A040D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1766-9FA4-4B16-B935-480FDC3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8D8A3-1D41-4222-8E5D-4E0FA42B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4730C-0206-4E44-94CD-B6BD7150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9FE711-6E55-4C88-831B-64283737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B2D60-8584-4766-B162-8A838F06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F853C-5909-4B84-B6DF-805FCF8E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3226E-68A1-4007-A091-72331AB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F879F4-9E02-442F-82A1-BA96694A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8F390-FCBF-4974-A4CF-89E93B87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DC0CE-A595-4681-847C-C54958D0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2E4AF-0750-43EB-9287-0B0FB0A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61D-5177-4A0D-ABDD-F1F2E745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927F-4592-465E-BB39-D598B9A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BDA72-F6E9-41CA-B82F-F6B5983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6B5F7-C507-4A2F-BA64-675C6BA2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872D6-785B-4931-AE03-2AC04C56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BDCF1-33C6-4712-B439-579EC674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7CFC7-0850-49FF-B8D2-95A62C3A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822C7-9819-44A3-A00A-8C21B515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C6BE1-01D7-44FF-B260-682C540C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AA828-F6CC-42CA-A7C2-A450EB92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4A2EC-9B2F-4BCC-9E89-AE80FF6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33A8F-60C4-4B19-AA39-10F4F31C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EC5C-A2CD-49DF-A26B-CBFBD71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8A7609-8F4C-4334-A834-2D4DEFB1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7AA4D-7782-46A0-96B8-F71EB84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0E90C-E713-4FD9-86F6-0030324F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5B8F2-9FB0-4945-A49B-D781201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A15609-A9F7-4877-8641-93926D63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CB727-2385-4305-A76C-27ABCE55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194BF0-4D3D-429E-82DB-10CF79CB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FFF7EA-FED3-4D21-9823-C6FB468B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45D860-9A51-4535-9136-11210393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0B35E-E201-4E6C-B648-A5BB0A62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A2D3-D9D3-4FF9-B2AE-30DBD359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3EB16-A7E2-442D-921B-F0492F36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C8611-48FD-431B-BBC7-A50CEA8E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829103-1A79-4EF9-A9A5-8D54634D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8D250D-0A43-40C7-95FA-8BE01D3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BDE25-C37F-41D5-ACA9-AF6F996E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23F09D-5471-4472-A792-A9FBC6E4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EAAD3-5FFF-4018-B282-356CD59E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9724B7-DF96-4482-AFB9-3A6407BE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D6AFE-5BA7-45DE-8937-7376CD98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DBE99-31B4-4103-9D89-4C52A76A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2115-B6AC-46B1-A726-430AD929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C5828-40C2-44A9-B6D6-AB68768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B51E3-678C-4D10-A4FC-41A8EC1B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4F7E8-6F8B-4030-842D-57DC4F2F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860CD-4621-47D4-87FA-148F50F9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100928-D05E-4702-84C4-F973858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BB463-3DBB-4D6C-A327-B64508D2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85C10-E7A9-4EDD-9889-5FF7838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9BFE98-AB99-4F32-81BD-4989121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5EE8EF-AF94-4E20-AAC6-216E834D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EB17D-BF4B-475B-81CF-1A8E8BAB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A19F-6A4A-4B6C-8DF2-59B8B5D3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2DDE3-2FAA-4A34-909C-1061F021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FB4366-2142-4C3A-9714-A72F8EF2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E0488-9B9C-46D6-B0C8-9128F00A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7450D-06D2-4BFB-B62B-ACE7B6C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EB467-386D-4B35-84D1-4488ABCB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92673-E335-4D30-8BB1-4B5DD53E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5E0BAD-F4E2-485D-9FA2-51598232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BD306-9857-4E01-95D2-BFEEC579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A53B1-3304-4D59-8534-28B3CED5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BF06BB-94B6-4E3B-AAC9-7019289E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8BFD-5E09-40DA-9F35-7EEC48B7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E66A2-3431-45F9-BD9E-30304BC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3EBB5-01F6-47EC-8970-D16F24F1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4DB9A-9B71-42CA-9602-E624641C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091CCC-8EA1-44A7-B31D-7C4050C6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A8A82C-9C86-44F3-844D-288FD0F7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A9BAB1-5AC7-4ECB-8508-9060504D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C305A7-8862-41C9-8229-9A324BEF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34728D-F673-4CAB-BC9F-52BA01C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1C529B-E9FA-48C7-AA8B-E08E02AC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38D3E-3CD9-43DE-81A3-F95314E1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BF2E-8374-45C1-A848-9D8B422E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737A03-0C0B-4899-9D7F-6607FD10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AD82BC-9675-48C6-AEC6-FD9B10A6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757B6B-2302-4C53-AE78-4E5484F5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CAC1E9-C302-4181-B043-C7440AB0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A9E0D9-237E-44BA-8D6F-846DC95F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A963C5-071A-4CC0-A2CE-7908CA8E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A2048D-2A02-476A-BEDB-4465C325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5FD83A-641C-4BB9-97F7-58407F75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1A4B0-7ED3-4355-98A4-E6937FF8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D0238B-D875-4670-899E-FCD5D6C7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2CAF-1ED6-4234-99B2-53914AF7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748F78-3B99-4279-9C36-7CA8DC4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26BA6B-D390-4D80-A9F5-27025E9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B97557-B3E3-434D-B1E2-D359ADDD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E954B2-647F-4B68-8A90-6352B333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F1B049-C818-4A7B-9000-51B8D571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4BC3AB-91F5-4B1B-B414-B928713C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43AD73-CC01-4B10-8B95-008F1AAE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FB60-CC64-4079-AA2E-F1258E5F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BB27-9314-4E82-A7A9-AD3D93AB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133-1C4B-44A3-B7EB-0FFF5A0C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70FE-8A19-4FF8-9BCC-13DDC022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27FE-E11B-46D9-9A82-8D646726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58E3A-2DC5-4EF7-B218-9323EAA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81E6-DB52-40DB-8A3B-5DEC63F6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D407-66FD-4814-8FAF-0A1C8375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F6BD-B356-4B8E-967C-8D520A9C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87EC-E02D-4722-95E4-153D5CAB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371A-949D-4A79-9DA4-8670C0D3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D3D3-7592-4662-94F0-30D03B71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528D-96E0-4C52-903C-374DFE1E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AC3-3FD2-45DA-8826-1BA3AB86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EEE2-5AB6-4187-9A2E-D1D03F2C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BF80-BC84-43D3-B568-61600D5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6CD0-7C07-4623-BD94-E719B7B4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1F3F-86B7-4294-B511-FF192DE5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2237-E8FD-4E62-B4CB-BDC2EE5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2A28-BE75-44F6-947D-A37403F1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C9ABE-EEDA-4ECD-AB5B-716B5CE7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5B2C-09AB-4E38-AB7E-9A4C63F2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068C-424D-4CFA-9D23-4134A58B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0B0B6-E395-4E86-9027-D5C4B6DC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189-FF60-4C6C-9435-DBF57172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2181B-650A-4F6B-A12C-CA11E093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812F4-F1F0-4C4C-9E76-60C0E375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94AF2-E5E4-417B-B2C9-05F160AF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9EC58-8208-4289-A0DD-7EC1A816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90D5A-7499-4686-BB91-9EAFD902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2FB1-4C45-42C2-835B-46643294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13D97-6995-4E0D-A637-240AF10D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632B3-2582-4E11-ACA6-10F97E6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5369-0DC0-4468-B8A5-BF9C642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B3840-9743-4122-A5D0-6159B522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F0D-9C5A-407B-81F0-3BD8AA65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066F-1E6D-42C3-98BD-86E6C982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F4EB-7C56-46A4-8776-2FFC60FC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1E262-2C56-4A63-A279-6C5EDF61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CBB60-9484-4A63-8B0E-35AC59AF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AC861-2173-4199-AD68-9A275BCD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3A71A-D215-4D79-91A5-B4A5CEE9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8BE76-5EAE-449A-8476-E1A60A4C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6612-97F7-426F-B765-F11BC720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F91CB-E1DD-4C6E-8557-C32E659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4DFFD-FE25-4D8C-B824-D1EA994F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668-5803-4C60-942D-FA05C6BA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6BEA-C435-4CCF-9B4D-0111F162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34D0D-B6FA-4BAC-B76F-156AFEC8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4EBF-75BD-4A9C-8626-6BDA551C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46B56-AA44-440C-8A26-31869C85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05693-495E-4744-81C2-87D36677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54170-5B34-4815-99E4-754098C8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62AC-77BA-46E5-973E-07660103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CD349-DAF4-4A03-9C23-5A92B9A3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8BDEE-3DED-4572-9CF9-9DBCC5DD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07A83-A00E-4132-B707-9DDD2D2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4BF-B35F-4216-AC7B-690529F4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2BA33-AB41-4485-BDA7-E410B11A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B38C9-14F2-48CD-AAD1-86668A0B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A7594-D92D-4913-B409-D71A8539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699ED-2408-4D27-B516-C89C396F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708C-B713-486B-8976-3C5371D7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8426-F9C6-4828-8C72-9ECAD81B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11A73-ED15-43BC-9C3A-218EC340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6A18E-DBD9-4C95-A4D4-AFD02AC2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95EF-B1B7-4FB6-A3D4-C9AA6C39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D4291-5442-48F0-8A43-2628E7B7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D4E-22D7-4577-837D-62B61454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782AD-3C2C-4F34-883C-8CA3696E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4AFF8-435B-427B-BDB7-73A641F9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E355C-578D-4D55-802F-C5C3B03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09C4A-FC5B-4AB4-858C-6144A8C7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82C5B-3C9D-4884-95E4-FCBE1AF5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4C1EE-E1D8-466A-AD76-BFD5FE36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A9183-2CEA-4B7E-9B5F-22423B88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A7634-0E21-4794-989C-6AD6AF54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1283A-306F-4153-A0D1-BEE9B767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B0C26-38E2-4BEB-8584-5714C4EC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DA93-A7E2-4724-8222-9D60BB2F0B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28D1-9F64-4E5A-9615-1AC2B10B1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5757-29B3-44EB-82F8-776B125B09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77BD-6032-4359-AC52-2ADE7F365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2EE-70BB-4FFB-B5DF-4BAA3538F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D4D-A76A-4A00-9E10-D93D90703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F8FB-2C72-45E9-9475-37403CA2A7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65FB-8B1D-413B-9F4F-BAD1B9BD2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957C-21EF-4672-9E9D-DB441706B5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1C71-7C02-432D-971D-A98D836145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51DE-0548-4EB9-9904-57F0E7323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8C00-CC62-49F1-9B62-A9A99F278D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A767-36B1-4037-9641-7A9CD899B7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800A-A8E4-4334-AEAA-84E71931BF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B304-BA2C-4438-AF50-AA71A35A20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B662-6C5C-4A0A-91A9-9F48E78BF5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B44-EF30-48F7-90A5-0E3558E3F1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E9BB-A2E4-4C66-A0EC-D5DCB4929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D63E-3738-44E3-BB3F-3CC23B9382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0044-31CA-42F6-BDB7-D1E394188D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1CDD-D1FB-4847-B7B0-481F3D15B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E414-47AE-483B-9030-0F885B9115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1EB3-CF70-4563-89C6-ECACE391F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5C93-092A-44B8-9515-79372D7EAE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4EA4-B0FD-46E1-88EF-AA131C626A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71A6-7FB2-4122-837D-C55F7F043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9C82-9DA8-434A-83BA-4662E0D656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555B-4698-42CC-9CC6-52ACD8BDBB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381E-5EA4-42EE-932C-F04F732C4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0D00-07BB-4104-9750-AED7AB6AFA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37C2-D8A4-4528-BD64-DE07091440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9F42-9C3F-42CF-AE5B-B2CCAAF73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7AAD-629A-48C2-9C0E-6B99E46DE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541E-CD2A-44DF-9D29-8622AA116B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8591-A73D-4E91-910E-3BB4AD514C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FC23-252A-4343-9D47-D09DA34AA3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3DCE-C678-4503-9FCD-41332C4D45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71CF-4E04-4D45-AA35-8E478634B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7EA8-1F82-49C5-BB29-F63EA0E20C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EBF8-AB19-449F-8FF1-7551B3664E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7D35-9CBD-48FB-88F2-41E170018D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A437-7C9C-4EA6-9A12-FA9DA45DCC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438120" y="2581200"/>
            <a:ext cx="82677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0960" y="851040"/>
            <a:ext cx="1552680" cy="3142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4" descr=""/>
          <p:cNvPicPr/>
          <p:nvPr/>
        </p:nvPicPr>
        <p:blipFill>
          <a:blip r:embed="rId2"/>
          <a:stretch/>
        </p:blipFill>
        <p:spPr>
          <a:xfrm>
            <a:off x="138240" y="1228680"/>
            <a:ext cx="8866080" cy="44006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24000" y="1238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24000" y="1916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36162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95280" y="465300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307800" y="1212840"/>
            <a:ext cx="7113600" cy="240984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2" descr=""/>
          <p:cNvPicPr/>
          <p:nvPr/>
        </p:nvPicPr>
        <p:blipFill>
          <a:blip r:embed="rId2"/>
          <a:stretch/>
        </p:blipFill>
        <p:spPr>
          <a:xfrm>
            <a:off x="307800" y="3736800"/>
            <a:ext cx="6332760" cy="1333800"/>
          </a:xfrm>
          <a:prstGeom prst="rect">
            <a:avLst/>
          </a:prstGeom>
          <a:ln w="0">
            <a:noFill/>
          </a:ln>
        </p:spPr>
      </p:pic>
      <p:pic>
        <p:nvPicPr>
          <p:cNvPr id="1116" name="图片 3" descr=""/>
          <p:cNvPicPr/>
          <p:nvPr/>
        </p:nvPicPr>
        <p:blipFill>
          <a:blip r:embed="rId3"/>
          <a:stretch/>
        </p:blipFill>
        <p:spPr>
          <a:xfrm>
            <a:off x="6823080" y="3813120"/>
            <a:ext cx="2133720" cy="24004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1835280" y="1916280"/>
            <a:ext cx="936360" cy="2761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2987640" y="1916280"/>
            <a:ext cx="936720" cy="276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665280" y="2608200"/>
            <a:ext cx="792000" cy="2761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2627280" y="2617920"/>
            <a:ext cx="1800360" cy="276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1332000" y="3294000"/>
            <a:ext cx="792000" cy="276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9"/>
          <a:stretch/>
        </p:blipFill>
        <p:spPr>
          <a:xfrm>
            <a:off x="2771640" y="3303720"/>
            <a:ext cx="792360" cy="2761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0"/>
          <a:stretch/>
        </p:blipFill>
        <p:spPr>
          <a:xfrm>
            <a:off x="1332000" y="4067280"/>
            <a:ext cx="792000" cy="2761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1"/>
          <a:stretch/>
        </p:blipFill>
        <p:spPr>
          <a:xfrm>
            <a:off x="3635280" y="4076640"/>
            <a:ext cx="792360" cy="2761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2"/>
          <a:stretch/>
        </p:blipFill>
        <p:spPr>
          <a:xfrm>
            <a:off x="2340000" y="4762440"/>
            <a:ext cx="302400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37960" y="1344600"/>
            <a:ext cx="5303880" cy="1123920"/>
          </a:xfrm>
          <a:prstGeom prst="rect">
            <a:avLst/>
          </a:prstGeom>
          <a:ln w="0">
            <a:noFill/>
          </a:ln>
        </p:spPr>
      </p:pic>
      <p:pic>
        <p:nvPicPr>
          <p:cNvPr id="1127" name="图片 2" descr=""/>
          <p:cNvPicPr/>
          <p:nvPr/>
        </p:nvPicPr>
        <p:blipFill>
          <a:blip r:embed="rId2"/>
          <a:stretch/>
        </p:blipFill>
        <p:spPr>
          <a:xfrm>
            <a:off x="711360" y="2924280"/>
            <a:ext cx="7065720" cy="17240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2411280" y="2943360"/>
            <a:ext cx="936720" cy="2761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2987640" y="3306600"/>
            <a:ext cx="1513080" cy="2764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2627280" y="3645000"/>
            <a:ext cx="936720" cy="2761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3851280" y="3995640"/>
            <a:ext cx="936720" cy="2764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7"/>
          <a:stretch/>
        </p:blipFill>
        <p:spPr>
          <a:xfrm>
            <a:off x="3708360" y="4321080"/>
            <a:ext cx="93672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393840" y="1541520"/>
            <a:ext cx="7534080" cy="1324080"/>
          </a:xfrm>
          <a:prstGeom prst="rect">
            <a:avLst/>
          </a:prstGeom>
          <a:ln w="0">
            <a:noFill/>
          </a:ln>
        </p:spPr>
      </p:pic>
      <p:pic>
        <p:nvPicPr>
          <p:cNvPr id="1134" name="图片 2" descr=""/>
          <p:cNvPicPr/>
          <p:nvPr/>
        </p:nvPicPr>
        <p:blipFill>
          <a:blip r:embed="rId2"/>
          <a:stretch/>
        </p:blipFill>
        <p:spPr>
          <a:xfrm>
            <a:off x="393840" y="2979720"/>
            <a:ext cx="6400800" cy="27241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1042920" y="2219400"/>
            <a:ext cx="865080" cy="2761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2124000" y="2224080"/>
            <a:ext cx="865440" cy="2761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3851280" y="2233440"/>
            <a:ext cx="865080" cy="2764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6"/>
          <a:stretch/>
        </p:blipFill>
        <p:spPr>
          <a:xfrm>
            <a:off x="1666800" y="2565360"/>
            <a:ext cx="1752840" cy="2761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7"/>
          <a:stretch/>
        </p:blipFill>
        <p:spPr>
          <a:xfrm>
            <a:off x="900000" y="3303720"/>
            <a:ext cx="3095640" cy="2761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8"/>
          <a:stretch/>
        </p:blipFill>
        <p:spPr>
          <a:xfrm>
            <a:off x="4716360" y="3294000"/>
            <a:ext cx="865440" cy="2761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9"/>
          <a:stretch/>
        </p:blipFill>
        <p:spPr>
          <a:xfrm>
            <a:off x="1476360" y="3995640"/>
            <a:ext cx="2374920" cy="2764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0"/>
          <a:stretch/>
        </p:blipFill>
        <p:spPr>
          <a:xfrm>
            <a:off x="1403280" y="4691160"/>
            <a:ext cx="2160720" cy="2761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11"/>
          <a:stretch/>
        </p:blipFill>
        <p:spPr>
          <a:xfrm>
            <a:off x="755640" y="5373720"/>
            <a:ext cx="2050920" cy="27612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12"/>
          <a:stretch/>
        </p:blipFill>
        <p:spPr>
          <a:xfrm>
            <a:off x="3635280" y="5373720"/>
            <a:ext cx="5763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4:1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